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wmf" ContentType="image/x-wmf"/>
  <Override PartName="/ppt/media/image5.wmf" ContentType="image/x-wmf"/>
  <Override PartName="/ppt/media/image10.png" ContentType="image/png"/>
  <Override PartName="/ppt/media/image35.jpeg" ContentType="image/jpeg"/>
  <Override PartName="/ppt/media/image1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3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EB77-C93E-40C5-8B0A-AD972E88EB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78EA-D96D-4840-BBF6-4F584408F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BF6A-37DA-45EC-AAFB-A8733261DA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6370-46AC-4C1D-A959-E7959EBBB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AC0-25DC-46BA-9ABF-2E9B39B9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FE02-347C-4AA1-B0AC-B201BB52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C26F-9173-4F1A-BDCE-34D264CE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A68-61BA-4965-B841-054A5037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EADE-AB18-4361-B87D-0D4CD3BE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F752-3AE2-4370-8E6B-0E3928A1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C30B-51DF-4681-826E-545EEFE4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CE14-24C9-4E8C-9F6E-9FC5910F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52A1-17A9-41A4-8D4E-780ED090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3ED8-4C10-438B-A5BE-8CD82B71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93CB-5E9A-403F-BC79-AFE7B64A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0266-2A6B-494A-A73D-0E35DE2E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9100-CCD6-430D-BF63-06ADA99D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F9DD-4C88-4C3A-8431-2172C24B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4CFD-5B55-4134-B574-4559546F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A724-B568-41D9-925E-564A6BE5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818B-73BC-4193-97B8-601B9316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6FF-5A74-42BD-9FBF-242833FC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82E-A7EF-4112-B3CC-48B58FBA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616E-2164-4D0D-B88C-5CFA04A5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768-1C4A-4481-A66E-0B8F4C63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221-F093-4D69-A28A-8D0D7420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9E1-8E06-495A-8C79-7BADE535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AD0-7AA7-4208-8EA2-C576C1C0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C14D-1F4A-4D4B-B8DE-0E7455BEAE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1907-ED2B-44CF-B52E-ECB3ABDE9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E663-256A-48FC-A92F-012FBA91D7A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0" y="0"/>
            <a:ext cx="9144000" cy="6858360"/>
            <a:chOff x="0" y="0"/>
            <a:chExt cx="9144000" cy="6858360"/>
          </a:xfrm>
        </p:grpSpPr>
        <p:pic>
          <p:nvPicPr>
            <p:cNvPr id="91" name="Picture 4" descr=""/>
            <p:cNvPicPr/>
            <p:nvPr/>
          </p:nvPicPr>
          <p:blipFill>
            <a:blip r:embed="rId1"/>
            <a:stretch/>
          </p:blipFill>
          <p:spPr>
            <a:xfrm>
              <a:off x="3981600" y="0"/>
              <a:ext cx="5162400" cy="68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5"/>
            <p:cNvSpPr/>
            <p:nvPr/>
          </p:nvSpPr>
          <p:spPr>
            <a:xfrm>
              <a:off x="228600" y="304560"/>
              <a:ext cx="3886200" cy="29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manuel (1995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x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ric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lab boundary 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 gradient wi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lk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L parameter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drag coefficient (momentu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enthalpy coeffic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Object 6"/>
                <p:cNvSpPr txBox="1"/>
                <p:nvPr/>
              </p:nvSpPr>
              <p:spPr>
                <a:xfrm>
                  <a:off x="228600" y="3657600"/>
                  <a:ext cx="3603600" cy="9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(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/>
                      </m:sSubSup>
                      <m:r>
                        <m:t xml:space="preserve">−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Object 7"/>
                <p:cNvSpPr txBox="1"/>
                <p:nvPr/>
              </p:nvSpPr>
              <p:spPr>
                <a:xfrm>
                  <a:off x="0" y="4648320"/>
                  <a:ext cx="388620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[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d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q</m:t>
                      </m:r>
                      <m:r>
                        <m:t xml:space="preserve">]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5" name="Text Box 10"/>
            <p:cNvSpPr/>
            <p:nvPr/>
          </p:nvSpPr>
          <p:spPr>
            <a:xfrm>
              <a:off x="457200" y="4876920"/>
              <a:ext cx="2971800" cy="16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~ 1.2 – 1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&gt; 0.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C:\MATLAB7\work\Model\HWRF\Bill2009\BILL03L.2009081600\Bill2009081600_track.tif"/>
          <p:cNvPicPr/>
          <p:nvPr/>
        </p:nvPicPr>
        <p:blipFill>
          <a:blip r:embed="rId1"/>
          <a:stretch/>
        </p:blipFill>
        <p:spPr>
          <a:xfrm>
            <a:off x="152280" y="0"/>
            <a:ext cx="4761000" cy="3733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MATLAB7\work\Model\HWRF\Bill2009\BILL03L.2009081600\Bill2009081600_intensity.tif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3"/>
          <a:stretch/>
        </p:blipFill>
        <p:spPr>
          <a:xfrm>
            <a:off x="5105520" y="3241800"/>
            <a:ext cx="3243240" cy="3616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C:\MATLAB7\work\Model\HWRF\Bill2009\BILL03L.2009081600\u10map.tif"/>
          <p:cNvPicPr/>
          <p:nvPr/>
        </p:nvPicPr>
        <p:blipFill>
          <a:blip r:embed="rId4"/>
          <a:stretch/>
        </p:blipFill>
        <p:spPr>
          <a:xfrm>
            <a:off x="4572000" y="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0" name="Picture 2" descr="C:\MATLAB7\work\Model\HWRF\Bill2009\Dropsonde\analysis\track_sonde_loc_0819.t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267080" cy="32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3" descr="C:\MATLAB7\work\Model\HWRF\Bill2009\Dropsonde\analysis\q_0819.tif"/>
            <p:cNvPicPr/>
            <p:nvPr/>
          </p:nvPicPr>
          <p:blipFill>
            <a:blip r:embed="rId2"/>
            <a:stretch/>
          </p:blipFill>
          <p:spPr>
            <a:xfrm>
              <a:off x="4495680" y="3367080"/>
              <a:ext cx="4648320" cy="34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" descr="C:\MATLAB7\work\Model\HWRF\Bill2009\Dropsonde\analysis\ws_0819.tif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43434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C:\MATLAB7\work\Model\HWRF\Bill2009\Dropsonde\analysis\theta_0819.tif"/>
            <p:cNvPicPr/>
            <p:nvPr/>
          </p:nvPicPr>
          <p:blipFill>
            <a:blip r:embed="rId4"/>
            <a:stretch/>
          </p:blipFill>
          <p:spPr>
            <a:xfrm>
              <a:off x="4495680" y="0"/>
              <a:ext cx="4465800" cy="335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1"/>
          <p:cNvGrpSpPr/>
          <p:nvPr/>
        </p:nvGrpSpPr>
        <p:grpSpPr>
          <a:xfrm>
            <a:off x="0" y="0"/>
            <a:ext cx="8915400" cy="6781680"/>
            <a:chOff x="0" y="0"/>
            <a:chExt cx="8915400" cy="6781680"/>
          </a:xfrm>
        </p:grpSpPr>
        <p:pic>
          <p:nvPicPr>
            <p:cNvPr id="175" name="Picture 10" descr="C:\MATLAB7\work\Model\HWRF\Bill2009\BILL03L.2009081600\T10_dist.tif"/>
            <p:cNvPicPr/>
            <p:nvPr/>
          </p:nvPicPr>
          <p:blipFill>
            <a:blip r:embed="rId1"/>
            <a:stretch/>
          </p:blipFill>
          <p:spPr>
            <a:xfrm>
              <a:off x="152280" y="3505320"/>
              <a:ext cx="42670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7" descr="C:\MATLAB7\work\Model\HWRF\Bill2009\BILL03L.2009081600\q10_dist.tif"/>
            <p:cNvPicPr/>
            <p:nvPr/>
          </p:nvPicPr>
          <p:blipFill>
            <a:blip r:embed="rId2"/>
            <a:stretch/>
          </p:blipFill>
          <p:spPr>
            <a:xfrm>
              <a:off x="4648320" y="3581280"/>
              <a:ext cx="42670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0" descr="C:\MATLAB7\work\Model\HWRF\Bill2009\BILL03L.2009081600\T10_dist_sonde.t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7048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1" descr="C:\MATLAB7\work\Model\HWRF\Bill2009\BILL03L.2009081600\q10_dist_sonde.tif"/>
            <p:cNvPicPr/>
            <p:nvPr/>
          </p:nvPicPr>
          <p:blipFill>
            <a:blip r:embed="rId4"/>
            <a:stretch/>
          </p:blipFill>
          <p:spPr>
            <a:xfrm>
              <a:off x="4267080" y="152280"/>
              <a:ext cx="4368960" cy="32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228600" y="0"/>
            <a:ext cx="8763120" cy="6705720"/>
            <a:chOff x="228600" y="0"/>
            <a:chExt cx="8763120" cy="6705720"/>
          </a:xfrm>
        </p:grpSpPr>
        <p:pic>
          <p:nvPicPr>
            <p:cNvPr id="181" name="Picture 6" descr="C:\MATLAB7\work\Model\HWRF\Bill2009\BILL03L.2009081600\dltT_dist.tif"/>
            <p:cNvPicPr/>
            <p:nvPr/>
          </p:nvPicPr>
          <p:blipFill>
            <a:blip r:embed="rId1"/>
            <a:stretch/>
          </p:blipFill>
          <p:spPr>
            <a:xfrm>
              <a:off x="4419720" y="0"/>
              <a:ext cx="4572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9" descr="C:\MATLAB7\work\Model\HWRF\Bill2009\BILL03L.2009081600\sst_dist.tif"/>
            <p:cNvPicPr/>
            <p:nvPr/>
          </p:nvPicPr>
          <p:blipFill>
            <a:blip r:embed="rId2"/>
            <a:stretch/>
          </p:blipFill>
          <p:spPr>
            <a:xfrm>
              <a:off x="228600" y="152280"/>
              <a:ext cx="42670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8" descr="C:\MATLAB7\work\Model\HWRF\Bill2009\BILL03L.2009081600\q0_dist.tif"/>
            <p:cNvPicPr/>
            <p:nvPr/>
          </p:nvPicPr>
          <p:blipFill>
            <a:blip r:embed="rId3"/>
            <a:stretch/>
          </p:blipFill>
          <p:spPr>
            <a:xfrm>
              <a:off x="228600" y="3505320"/>
              <a:ext cx="42670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9" descr="C:\MATLAB7\work\Model\HWRF\Bill2009\BILL03L.2009081600\dltQ_dist.tif"/>
            <p:cNvPicPr/>
            <p:nvPr/>
          </p:nvPicPr>
          <p:blipFill>
            <a:blip r:embed="rId4"/>
            <a:stretch/>
          </p:blipFill>
          <p:spPr>
            <a:xfrm>
              <a:off x="4495680" y="3353040"/>
              <a:ext cx="4470480" cy="335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C:\MATLAB7\work\Model\HWRF\Bill2009\BILL03L.2009081600\rzmean_rh.jpg"/>
          <p:cNvPicPr/>
          <p:nvPr/>
        </p:nvPicPr>
        <p:blipFill>
          <a:blip r:embed="rId1"/>
          <a:stretch/>
        </p:blipFill>
        <p:spPr>
          <a:xfrm>
            <a:off x="152280" y="380880"/>
            <a:ext cx="4419720" cy="3532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MATLAB7\work\Model\HWRF\Bill2009\BILL03L.2009081600\cross_rh.jpg"/>
          <p:cNvPicPr/>
          <p:nvPr/>
        </p:nvPicPr>
        <p:blipFill>
          <a:blip r:embed="rId2"/>
          <a:stretch/>
        </p:blipFill>
        <p:spPr>
          <a:xfrm>
            <a:off x="4876920" y="2514600"/>
            <a:ext cx="3581280" cy="38926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4"/>
          <p:cNvSpPr/>
          <p:nvPr/>
        </p:nvSpPr>
        <p:spPr>
          <a:xfrm>
            <a:off x="1523880" y="152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 mean 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5"/>
          <p:cNvSpPr/>
          <p:nvPr/>
        </p:nvSpPr>
        <p:spPr>
          <a:xfrm>
            <a:off x="571500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section 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1233360" y="3809880"/>
            <a:ext cx="180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al distance (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 rot="16200000">
            <a:off x="-361800" y="189000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itude (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6200000">
            <a:off x="4285800" y="425232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itude (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5796360" y="6400800"/>
            <a:ext cx="164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W distance (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C:\MATLAB7\work\Papers\Now\Mean_HBL_Struc\Figure5.tif"/>
          <p:cNvPicPr/>
          <p:nvPr/>
        </p:nvPicPr>
        <p:blipFill>
          <a:blip r:embed="rId1"/>
          <a:stretch/>
        </p:blipFill>
        <p:spPr>
          <a:xfrm>
            <a:off x="152280" y="914400"/>
            <a:ext cx="4496040" cy="5681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4724280" y="1143000"/>
            <a:ext cx="4267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 Idealized simulations to do sensitivity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ue case studies such as Bill, evaluating the boundary layer and surface layer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 model outputs with observations in the composite analysis point of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3808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990720" y="228600"/>
            <a:ext cx="8381880" cy="6246720"/>
            <a:chOff x="990720" y="228600"/>
            <a:chExt cx="8381880" cy="6246720"/>
          </a:xfrm>
        </p:grpSpPr>
        <mc:AlternateContent>
          <mc:Choice xmlns:a14="http://schemas.microsoft.com/office/drawing/2010/main" Requires="a14">
            <p:sp>
              <p:nvSpPr>
                <p:cNvPr id="105" name="Object 2"/>
                <p:cNvSpPr txBox="1"/>
                <p:nvPr/>
              </p:nvSpPr>
              <p:spPr>
                <a:xfrm>
                  <a:off x="1905120" y="4114800"/>
                  <a:ext cx="419076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Dz</m:t>
                          </m:r>
                        </m:sub>
                      </m:sSub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U</m:t>
                              </m:r>
                              <m:r>
                                <m:t xml:space="preserve">(</m:t>
                              </m:r>
                              <m:r>
                                <m:t xml:space="preserve">z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t xml:space="preserve">U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3"/>
                <p:cNvSpPr txBox="1"/>
                <p:nvPr/>
              </p:nvSpPr>
              <p:spPr>
                <a:xfrm>
                  <a:off x="1828800" y="5029200"/>
                  <a:ext cx="670572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Hz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4"/>
                <p:cNvSpPr txBox="1"/>
                <p:nvPr/>
              </p:nvSpPr>
              <p:spPr>
                <a:xfrm>
                  <a:off x="1828800" y="5867640"/>
                  <a:ext cx="6553080" cy="60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Ez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q</m:t>
                          </m:r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q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Text Box 13"/>
            <p:cNvSpPr/>
            <p:nvPr/>
          </p:nvSpPr>
          <p:spPr>
            <a:xfrm>
              <a:off x="990720" y="228600"/>
              <a:ext cx="838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urface Fluxes and Parameterizatio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Object 5"/>
                <p:cNvSpPr txBox="1"/>
                <p:nvPr/>
              </p:nvSpPr>
              <p:spPr>
                <a:xfrm>
                  <a:off x="1892160" y="1218960"/>
                  <a:ext cx="5054400" cy="96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sSup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u</m:t>
                              </m:r>
                              <m:r>
                                <m:t xml:space="preserve">'</m:t>
                              </m:r>
                              <m:r>
                                <m:t xml:space="preserve">w</m:t>
                              </m:r>
                              <m:r>
                                <m:t xml:space="preserve">'</m:t>
                              </m:r>
                            </m:e>
                          </m:ba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v</m:t>
                              </m:r>
                              <m:r>
                                <m:t xml:space="preserve">'</m:t>
                              </m:r>
                              <m:r>
                                <m:t xml:space="preserve">w</m:t>
                              </m:r>
                              <m:r>
                                <m:t xml:space="preserve">'</m:t>
                              </m:r>
                            </m:e>
                          </m:ba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  <m:r>
                        <m:t xml:space="preserve">=</m:t>
                      </m:r>
                      <m:sSubSup>
                        <m:e>
                          <m:r>
                            <m:t xml:space="preserve">ρu</m:t>
                          </m:r>
                        </m:e>
                        <m:sub/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ρ</m:t>
                      </m:r>
                      <m:f>
                        <m:num>
                          <m:r>
                            <m:t xml:space="preserve">∂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Object 6"/>
                <p:cNvSpPr txBox="1"/>
                <p:nvPr/>
              </p:nvSpPr>
              <p:spPr>
                <a:xfrm>
                  <a:off x="1905120" y="2209680"/>
                  <a:ext cx="56386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ρ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bar>
                        <m:barPr>
                          <m:pos m:val="top"/>
                        </m:barPr>
                        <m:e>
                          <m:r>
                            <m:t xml:space="preserve">w</m:t>
                          </m:r>
                          <m:r>
                            <m:t xml:space="preserve">'</m:t>
                          </m:r>
                          <m:r>
                            <m:t xml:space="preserve">T</m:t>
                          </m:r>
                          <m:r>
                            <m:t xml:space="preserve">'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/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/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f>
                        <m:num>
                          <m:r>
                            <m:t xml:space="preserve">∂</m:t>
                          </m:r>
                          <m:r>
                            <m:t xml:space="preserve">θ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Object 7"/>
                <p:cNvSpPr txBox="1"/>
                <p:nvPr/>
              </p:nvSpPr>
              <p:spPr>
                <a:xfrm>
                  <a:off x="1905120" y="3200400"/>
                  <a:ext cx="5410080" cy="87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ρL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bar>
                        <m:barPr>
                          <m:pos m:val="top"/>
                        </m:barPr>
                        <m:e>
                          <m:r>
                            <m:t xml:space="preserve">w</m:t>
                          </m:r>
                          <m:r>
                            <m:t xml:space="preserve">'</m:t>
                          </m:r>
                          <m:r>
                            <m:t xml:space="preserve">q</m:t>
                          </m:r>
                          <m:r>
                            <m:t xml:space="preserve">'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ρL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/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/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q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ρ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" name="Line 17"/>
          <p:cNvSpPr/>
          <p:nvPr/>
        </p:nvSpPr>
        <p:spPr>
          <a:xfrm>
            <a:off x="2057400" y="1981080"/>
            <a:ext cx="2514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>
            <a:off x="1981080" y="3886200"/>
            <a:ext cx="1828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1905120" y="289548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600200" y="152280"/>
            <a:ext cx="6477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M5 simulation of Hurricane Bo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Braun-Tao-Fig3"/>
          <p:cNvPicPr/>
          <p:nvPr/>
        </p:nvPicPr>
        <p:blipFill>
          <a:blip r:embed="rId1"/>
          <a:stretch/>
        </p:blipFill>
        <p:spPr>
          <a:xfrm>
            <a:off x="762120" y="1066680"/>
            <a:ext cx="5076720" cy="5438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6095880" y="12952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un and 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248520" y="19810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nsitivity to boundary-layer parame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019920" y="365760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Wingdings 3"/>
                <a:ea typeface="Wingdings 3"/>
              </a:rPr>
              <a:t></a:t>
            </a:r>
            <a:r>
              <a:rPr b="1" lang="en-US" sz="1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0504d"/>
                </a:solidFill>
                <a:latin typeface="Times New Roman"/>
              </a:rPr>
              <a:t>Skillful prediction of intensity change requires an accurate representation of the boundary layer</a:t>
            </a:r>
            <a:r>
              <a:rPr b="1" lang="en-US" sz="1800" spc="-1" strike="noStrike">
                <a:solidFill>
                  <a:srgbClr val="c0504d"/>
                </a:solidFill>
                <a:latin typeface="Times New Roman"/>
                <a:ea typeface="宋体"/>
              </a:rPr>
              <a:t> and parameterization of surface fluxes</a:t>
            </a:r>
            <a:r>
              <a:rPr b="1" lang="en-US" sz="1800" spc="-1" strike="noStrike">
                <a:solidFill>
                  <a:srgbClr val="c0504d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28600" y="380880"/>
            <a:ext cx="8686800" cy="609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Snap19.jpg"/>
          <p:cNvPicPr/>
          <p:nvPr/>
        </p:nvPicPr>
        <p:blipFill>
          <a:blip r:embed="rId1"/>
          <a:stretch/>
        </p:blipFill>
        <p:spPr>
          <a:xfrm>
            <a:off x="733320" y="490680"/>
            <a:ext cx="7677360" cy="58766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4496760" y="121932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- unmod Bu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2894760" y="20574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mod Bu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653720" y="441972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- M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932080" y="373392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– Burk Tho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6320880" y="33526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- Black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5962680" y="41148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– Gayno-Sea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5118840" y="4800600"/>
            <a:ext cx="29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– unmod Gayno-Sea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6934320" y="5867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to Roger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RF Simulation of Hurricane Isab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7" descr="Picture1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2971800" y="533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lan, Zhang, Stern, 2009 MW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6"/>
          <p:cNvSpPr/>
          <p:nvPr/>
        </p:nvSpPr>
        <p:spPr>
          <a:xfrm>
            <a:off x="5105520" y="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owell et al.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136" name="Picture 5" descr="cd"/>
            <p:cNvPicPr/>
            <p:nvPr/>
          </p:nvPicPr>
          <p:blipFill>
            <a:blip r:embed="rId1"/>
            <a:stretch/>
          </p:blipFill>
          <p:spPr>
            <a:xfrm>
              <a:off x="228600" y="3429000"/>
              <a:ext cx="3985200" cy="30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7"/>
            <p:cNvSpPr/>
            <p:nvPr/>
          </p:nvSpPr>
          <p:spPr>
            <a:xfrm>
              <a:off x="1676520" y="571500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Donelan et al. 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5" descr="wessex1a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435816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6"/>
            <p:cNvSpPr/>
            <p:nvPr/>
          </p:nvSpPr>
          <p:spPr>
            <a:xfrm>
              <a:off x="1371600" y="75960"/>
              <a:ext cx="3048120" cy="11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EC Data from 8 field experiments : AGILE, AWE, ETCH,GASEX,HEXOS,RASEX, SHOWEX, SWADE, WAVES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4322 pts).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alibri"/>
                </a:rPr>
                <a:t>—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mith (198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3" descr="C:\MATLAB7\work\Model\HWRF\Bill2009\BILL03L.2009081600\Cd_u10_hwrfx.tif"/>
            <p:cNvPicPr/>
            <p:nvPr/>
          </p:nvPicPr>
          <p:blipFill>
            <a:blip r:embed="rId3"/>
            <a:stretch/>
          </p:blipFill>
          <p:spPr>
            <a:xfrm>
              <a:off x="4496040" y="2874240"/>
              <a:ext cx="4654440" cy="39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4" descr="2"/>
            <p:cNvPicPr/>
            <p:nvPr/>
          </p:nvPicPr>
          <p:blipFill>
            <a:blip r:embed="rId4"/>
            <a:stretch/>
          </p:blipFill>
          <p:spPr>
            <a:xfrm>
              <a:off x="4420080" y="0"/>
              <a:ext cx="4038840" cy="299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2743200" y="228600"/>
            <a:ext cx="192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COARE-3     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COARE 2.5  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1"/>
          <p:cNvGrpSpPr/>
          <p:nvPr/>
        </p:nvGrpSpPr>
        <p:grpSpPr>
          <a:xfrm>
            <a:off x="0" y="0"/>
            <a:ext cx="9077400" cy="6858000"/>
            <a:chOff x="0" y="0"/>
            <a:chExt cx="9077400" cy="6858000"/>
          </a:xfrm>
        </p:grpSpPr>
        <p:grpSp>
          <p:nvGrpSpPr>
            <p:cNvPr id="144" name="Group 16"/>
            <p:cNvGrpSpPr/>
            <p:nvPr/>
          </p:nvGrpSpPr>
          <p:grpSpPr>
            <a:xfrm>
              <a:off x="0" y="0"/>
              <a:ext cx="9077400" cy="6858000"/>
              <a:chOff x="0" y="0"/>
              <a:chExt cx="9077400" cy="6858000"/>
            </a:xfrm>
          </p:grpSpPr>
          <p:pic>
            <p:nvPicPr>
              <p:cNvPr id="145" name="Picture 2" descr="Cevsu10_lessthan20ms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115160" cy="30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Rectangle 3"/>
              <p:cNvSpPr/>
              <p:nvPr/>
            </p:nvSpPr>
            <p:spPr>
              <a:xfrm>
                <a:off x="457200" y="152280"/>
                <a:ext cx="471708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O  AGILE    (Donelan &amp; Drennan 1995)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X  HEXOS  (DeCosmo et al 1996)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◊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GASEX  (McGillis et al 200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SOWEX (Banner et al 1999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000" spc="-1" strike="noStrike">
                    <a:solidFill>
                      <a:srgbClr val="000000"/>
                    </a:solidFill>
                    <a:latin typeface="Calibri"/>
                  </a:rPr>
                  <a:t>□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SWADE  (Katsaros et al 199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072600"/>
                <a:ext cx="5563080" cy="378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Text Box 13"/>
              <p:cNvSpPr/>
              <p:nvPr/>
            </p:nvSpPr>
            <p:spPr>
              <a:xfrm>
                <a:off x="685800" y="304812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Δ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 CBLAST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Picture 6" descr="C:\MATLAB7\work\Model\HWRF\Bill2009\BILL03L.2009081600\Ce_u10_hwrfx.tif"/>
              <p:cNvPicPr/>
              <p:nvPr/>
            </p:nvPicPr>
            <p:blipFill>
              <a:blip r:embed="rId3"/>
              <a:stretch/>
            </p:blipFill>
            <p:spPr>
              <a:xfrm>
                <a:off x="4420080" y="0"/>
                <a:ext cx="4657320" cy="373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15"/>
              <p:cNvSpPr/>
              <p:nvPr/>
            </p:nvSpPr>
            <p:spPr>
              <a:xfrm>
                <a:off x="1752480" y="3352680"/>
                <a:ext cx="251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(Drennan et al. 2007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TextBox 11"/>
            <p:cNvSpPr/>
            <p:nvPr/>
          </p:nvSpPr>
          <p:spPr>
            <a:xfrm>
              <a:off x="5487120" y="4572000"/>
              <a:ext cx="35053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014b0"/>
                  </a:solidFill>
                  <a:latin typeface="Calibri"/>
                </a:rPr>
                <a:t>Zhang, Black, French and Drennan, 2008: </a:t>
              </a:r>
              <a:r>
                <a:rPr b="0" lang="en-US" sz="1800" spc="-1" strike="noStrike">
                  <a:solidFill>
                    <a:srgbClr val="1014b0"/>
                  </a:solidFill>
                  <a:latin typeface="Calibri"/>
                </a:rPr>
                <a:t>First direct measurements of enthalpy flux in the hurricane boundary layer: the CBLAST results. </a:t>
              </a:r>
              <a:r>
                <a:rPr b="0" i="1" lang="en-US" sz="1800" spc="-1" strike="noStrike">
                  <a:solidFill>
                    <a:srgbClr val="1014b0"/>
                  </a:solidFill>
                  <a:latin typeface="Calibri"/>
                </a:rPr>
                <a:t>Geophys. Res. Lett.</a:t>
              </a:r>
              <a:r>
                <a:rPr b="0" lang="en-US" sz="1800" spc="-1" strike="noStrike">
                  <a:solidFill>
                    <a:srgbClr val="1014b0"/>
                  </a:solidFill>
                  <a:latin typeface="Calibri"/>
                </a:rPr>
                <a:t>, </a:t>
              </a:r>
              <a:r>
                <a:rPr b="1" lang="en-US" sz="1800" spc="-1" strike="noStrike">
                  <a:solidFill>
                    <a:srgbClr val="1014b0"/>
                  </a:solidFill>
                  <a:latin typeface="Calibri"/>
                </a:rPr>
                <a:t>35,</a:t>
              </a:r>
              <a:r>
                <a:rPr b="0" lang="en-US" sz="1800" spc="-1" strike="noStrike">
                  <a:solidFill>
                    <a:srgbClr val="1014b0"/>
                  </a:solidFill>
                  <a:latin typeface="Calibri"/>
                </a:rPr>
                <a:t> L14813,  oi:10.1029/2008GL034374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572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coefficient for sensible heat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6" descr="C:\MATLAB7\work\Model\HWRF\Bill2009\BILL03L.2009081600\sfxmap.tif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MATLAB7\work\Model\HWRF\Bill2009\BILL03L.2009081600\delTmap.tif"/>
          <p:cNvPicPr/>
          <p:nvPr/>
        </p:nvPicPr>
        <p:blipFill>
          <a:blip r:embed="rId2"/>
          <a:stretch/>
        </p:blipFill>
        <p:spPr>
          <a:xfrm>
            <a:off x="4675320" y="3429000"/>
            <a:ext cx="4468680" cy="342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MATLAB7\work\Model\HWRF\Bill2009\BILL03L.2009081600\Chmap.tif"/>
          <p:cNvPicPr/>
          <p:nvPr/>
        </p:nvPicPr>
        <p:blipFill>
          <a:blip r:embed="rId3"/>
          <a:stretch/>
        </p:blipFill>
        <p:spPr>
          <a:xfrm>
            <a:off x="0" y="17524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8" descr="C:\MATLAB7\work\Model\HWRF\Bill2009\BILL03L.2009081600\u10map.tif"/>
          <p:cNvPicPr/>
          <p:nvPr/>
        </p:nvPicPr>
        <p:blipFill>
          <a:blip r:embed="rId1"/>
          <a:stretch/>
        </p:blipFill>
        <p:spPr>
          <a:xfrm>
            <a:off x="76320" y="954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C:\MATLAB7\work\Model\HWRF\Bill2009\BILL03L.2009081600\Cdmap.tif"/>
          <p:cNvPicPr/>
          <p:nvPr/>
        </p:nvPicPr>
        <p:blipFill>
          <a:blip r:embed="rId2"/>
          <a:stretch/>
        </p:blipFill>
        <p:spPr>
          <a:xfrm>
            <a:off x="0" y="3581280"/>
            <a:ext cx="4368960" cy="327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C:\Documents and Settings\Isaac Ginis\Desktop\Cd_Quadrant_scatter.jpg"/>
          <p:cNvPicPr/>
          <p:nvPr/>
        </p:nvPicPr>
        <p:blipFill>
          <a:blip r:embed="rId3"/>
          <a:stretch/>
        </p:blipFill>
        <p:spPr>
          <a:xfrm>
            <a:off x="4522680" y="838080"/>
            <a:ext cx="4621320" cy="35053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2"/>
          <p:cNvSpPr/>
          <p:nvPr/>
        </p:nvSpPr>
        <p:spPr>
          <a:xfrm>
            <a:off x="5105520" y="35812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to Isaac Gi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5181480" y="47242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separate wind speed induced asymmetry from wave effect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685800" y="457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WRF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609480" y="3962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WRF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5410080" y="8380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ed-Wave model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4:48:37Z</dcterms:created>
  <dc:creator> </dc:creator>
  <dc:description/>
  <dc:language>en-US</dc:language>
  <cp:lastModifiedBy>Seminar</cp:lastModifiedBy>
  <dcterms:modified xsi:type="dcterms:W3CDTF">2009-10-15T14:50:41Z</dcterms:modified>
  <cp:revision>43</cp:revision>
  <dc:subject/>
  <dc:title>Slide 1</dc:title>
</cp:coreProperties>
</file>